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едмет: Енглески јези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едавач: Душица Лази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HE, A or AN where necessary:</a:t>
            </a:r>
            <a:endParaRPr b="0" lang="en-US" sz="28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ization is………method of stimulating resistance in……….human body to………..specific diseases.</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ctive immunization, all or………part of………disease-causing microorganism or………….modified product of ……….microorganism is injected into……….body to make………immune system respond defensively.</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mmunizing agents provide………….complete protection against………..disease but other agents provide………….partial protection, meaning that…………..immunized person can contract……….disease but in ………….less severe form.</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make……….vaccine that confers active immunization, scientists use……….organism or……..part of one that has been modified so that it has………low risk of causing illness but still triggers…………body’s immune defenses against……….disea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краћи текст на енглески јези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ate Immunity</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s are exposed to millions of potential pathogens daily, through contact, ingestion, and inhalation. Our ability to avoid infection depends in part on the adaptive immune system, which remembers previous encounters with specific pathogens and destroys them when they attack again. Adaptive immune responses, however, are slow to develop on first exposure to a new pathogen, as specific clones of B and T cells have to become activated and expand; it can therefore take a week or so before the responses are effective. By contrast, a single bacterium with a doubling time of one hour can produce almost 20 million progeny, a full-blown infection, in a single da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Language in Pharmacy Practice” by Leontina Kern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n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hipath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mato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aryo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ul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INNATE IMMUN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THELIAL SURFACES IN INFECTION PRE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DEFENS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HOGEN-ASSOCIATED IMMUNOSTIMUL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nouns to the following adjectives:</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words that mean the opposite of:</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r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g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following conditional sentences:</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atient had been given the vaccine,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he has a temperature,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ould feel fine if th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ess she had listened to the doctor’s advice,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were a pharmacist, 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n’t be able to finish your research if yo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below:</a:t>
            </a:r>
            <a:br>
              <a:rPr sz="2400"/>
            </a:br>
            <a:r>
              <a:rPr b="0" lang="en-US" sz="2400" spc="-1" strike="noStrike">
                <a:solidFill>
                  <a:srgbClr val="000000"/>
                </a:solidFill>
                <a:latin typeface="Arial"/>
              </a:rPr>
              <a:t>keep on, pass away, fight off, come through, pass out, take away, throw up, pull through</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hild feels sick. He has…………….his dinner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his operation as cheerful as 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sorry to hear that your uncle………………last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young man heard the news, he……………with the sh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wants to…………….Mother……………the medicine for another mon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 give you a pill to ………………….the p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the disease if you want to feel bet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as so ill after her operation that the doctors wondered if they would be able to……………….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following sentences by filling “over” or “under” in the gaps:</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tient is very week. He seems……………nourish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idn’t feel well yesterday. He was……………come by tired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should do some exercises. Her muscles are………develo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n is sick. He was…………..exposed to harmful chemical substa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control yourself. Sometimes you are…………sensi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idn’t expect that she would……………achieve at the Facul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6-08T09:34:53Z</dcterms:modified>
  <cp:revision>16</cp:revision>
  <dc:subject/>
  <dc:title>Slide 1</dc:title>
</cp:coreProperties>
</file>